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wmf" ContentType="image/x-wmf"/>
  <Override PartName="/ppt/media/image23.wmf" ContentType="image/x-wmf"/>
  <Override PartName="/ppt/media/image10.wmf" ContentType="image/x-wmf"/>
  <Override PartName="/ppt/media/image29.wmf" ContentType="image/x-wmf"/>
  <Override PartName="/ppt/media/image6.wmf" ContentType="image/x-wmf"/>
  <Override PartName="/ppt/media/image11.wmf" ContentType="image/x-wmf"/>
  <Override PartName="/ppt/media/image5.wmf" ContentType="image/x-wmf"/>
  <Override PartName="/ppt/media/image7.wmf" ContentType="image/x-wmf"/>
  <Override PartName="/ppt/media/image12.wmf" ContentType="image/x-wmf"/>
  <Override PartName="/ppt/media/image30.wmf" ContentType="image/x-wmf"/>
  <Override PartName="/ppt/media/image27.png" ContentType="image/png"/>
  <Override PartName="/ppt/media/image31.wmf" ContentType="image/x-wmf"/>
  <Override PartName="/ppt/media/image28.png" ContentType="image/png"/>
  <Override PartName="/ppt/media/image13.wmf" ContentType="image/x-wmf"/>
  <Override PartName="/ppt/media/image8.wmf" ContentType="image/x-wmf"/>
  <Override PartName="/ppt/media/image9.wmf" ContentType="image/x-wmf"/>
  <Override PartName="/ppt/media/image3.wmf" ContentType="image/x-wmf"/>
  <Override PartName="/ppt/media/image26.wmf" ContentType="image/x-wmf"/>
  <Override PartName="/ppt/media/image2.wmf" ContentType="image/x-wmf"/>
  <Override PartName="/ppt/media/image25.wmf" ContentType="image/x-wmf"/>
  <Override PartName="/ppt/media/image4.wmf" ContentType="image/x-wmf"/>
  <Override PartName="/ppt/media/image1.jpeg" ContentType="image/jpeg"/>
  <Override PartName="/ppt/media/image15.wmf" ContentType="image/x-wmf"/>
  <Override PartName="/ppt/media/image14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media/image2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20116800" cy="1508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2084400"/>
                <a:tab algn="l" pos="4168800"/>
                <a:tab algn="l" pos="6253200"/>
                <a:tab algn="l" pos="8337600"/>
                <a:tab algn="l" pos="104220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2084400"/>
                <a:tab algn="l" pos="4168800"/>
                <a:tab algn="l" pos="6253200"/>
                <a:tab algn="l" pos="8337600"/>
                <a:tab algn="l" pos="10422000"/>
              </a:tabLst>
              <a:defRPr b="0" lang="bg-BG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2084400"/>
                <a:tab algn="l" pos="4168800"/>
                <a:tab algn="l" pos="6253200"/>
                <a:tab algn="l" pos="8337600"/>
                <a:tab algn="l" pos="10422000"/>
              </a:tabLst>
            </a:pPr>
            <a:r>
              <a:rPr b="0" lang="bg-BG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3800"/>
                <a:tab algn="l" pos="2127240"/>
                <a:tab algn="l" pos="3191040"/>
                <a:tab algn="l" pos="4254480"/>
                <a:tab algn="l" pos="5318280"/>
                <a:tab algn="l" pos="6381720"/>
                <a:tab algn="l" pos="7445520"/>
                <a:tab algn="l" pos="8508960"/>
                <a:tab algn="l" pos="9572760"/>
                <a:tab algn="l" pos="10636200"/>
              </a:tabLst>
            </a:pPr>
            <a:r>
              <a:rPr b="0" lang="en-US" sz="51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2084400"/>
                <a:tab algn="l" pos="4168800"/>
                <a:tab algn="l" pos="6253200"/>
                <a:tab algn="l" pos="8337600"/>
                <a:tab algn="l" pos="104220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2084400"/>
                <a:tab algn="l" pos="4168800"/>
                <a:tab algn="l" pos="6253200"/>
                <a:tab algn="l" pos="8337600"/>
                <a:tab algn="l" pos="10422000"/>
              </a:tabLst>
              <a:defRPr b="0" lang="bg-BG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2084400"/>
                <a:tab algn="l" pos="4168800"/>
                <a:tab algn="l" pos="6253200"/>
                <a:tab algn="l" pos="8337600"/>
                <a:tab algn="l" pos="10422000"/>
              </a:tabLst>
            </a:pPr>
            <a:fld id="{FD2102C7-E71D-4E7D-896D-739EAD2352B7}" type="slidenum">
              <a:rPr b="0" lang="bg-BG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2084400"/>
                <a:tab algn="l" pos="4168800"/>
                <a:tab algn="l" pos="6253200"/>
                <a:tab algn="l" pos="8337600"/>
                <a:tab algn="l" pos="10422000"/>
              </a:tabLst>
            </a:pPr>
            <a:fld id="{A1A86258-09E3-4C48-975B-99E485403E17}" type="slidenum">
              <a:rPr b="0" lang="bg-BG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57F7B-DBF4-4801-B14A-D16B9C386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82760" y="802800"/>
            <a:ext cx="17351280" cy="29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3800"/>
                <a:tab algn="l" pos="2127240"/>
                <a:tab algn="l" pos="3191040"/>
                <a:tab algn="l" pos="4254480"/>
                <a:tab algn="l" pos="5318280"/>
                <a:tab algn="l" pos="6381720"/>
                <a:tab algn="l" pos="7445520"/>
                <a:tab algn="l" pos="8508960"/>
                <a:tab algn="l" pos="9572760"/>
                <a:tab algn="l" pos="1063620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82760" y="4016520"/>
            <a:ext cx="17351280" cy="456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62"/>
              </a:spcBef>
              <a:buNone/>
              <a:tabLst>
                <a:tab algn="l" pos="1063800"/>
                <a:tab algn="l" pos="2127240"/>
                <a:tab algn="l" pos="3191040"/>
                <a:tab algn="l" pos="4254480"/>
                <a:tab algn="l" pos="5318280"/>
                <a:tab algn="l" pos="6381720"/>
                <a:tab algn="l" pos="7445520"/>
                <a:tab algn="l" pos="8508960"/>
                <a:tab algn="l" pos="9572760"/>
                <a:tab algn="l" pos="106362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82760" y="9016560"/>
            <a:ext cx="17351280" cy="456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62"/>
              </a:spcBef>
              <a:buNone/>
              <a:tabLst>
                <a:tab algn="l" pos="1063800"/>
                <a:tab algn="l" pos="2127240"/>
                <a:tab algn="l" pos="3191040"/>
                <a:tab algn="l" pos="4254480"/>
                <a:tab algn="l" pos="5318280"/>
                <a:tab algn="l" pos="6381720"/>
                <a:tab algn="l" pos="7445520"/>
                <a:tab algn="l" pos="8508960"/>
                <a:tab algn="l" pos="9572760"/>
                <a:tab algn="l" pos="106362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36323-6617-4A27-9D6E-7C36838E1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82760" y="802800"/>
            <a:ext cx="17351280" cy="29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3800"/>
                <a:tab algn="l" pos="2127240"/>
                <a:tab algn="l" pos="3191040"/>
                <a:tab algn="l" pos="4254480"/>
                <a:tab algn="l" pos="5318280"/>
                <a:tab algn="l" pos="6381720"/>
                <a:tab algn="l" pos="7445520"/>
                <a:tab algn="l" pos="8508960"/>
                <a:tab algn="l" pos="9572760"/>
                <a:tab algn="l" pos="1063620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82760" y="4016520"/>
            <a:ext cx="8467200" cy="456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62"/>
              </a:spcBef>
              <a:buNone/>
              <a:tabLst>
                <a:tab algn="l" pos="1063800"/>
                <a:tab algn="l" pos="2127240"/>
                <a:tab algn="l" pos="3191040"/>
                <a:tab algn="l" pos="4254480"/>
                <a:tab algn="l" pos="5318280"/>
                <a:tab algn="l" pos="6381720"/>
                <a:tab algn="l" pos="7445520"/>
                <a:tab algn="l" pos="8508960"/>
                <a:tab algn="l" pos="9572760"/>
                <a:tab algn="l" pos="106362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273680" y="4016520"/>
            <a:ext cx="8467200" cy="456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62"/>
              </a:spcBef>
              <a:buNone/>
              <a:tabLst>
                <a:tab algn="l" pos="1063800"/>
                <a:tab algn="l" pos="2127240"/>
                <a:tab algn="l" pos="3191040"/>
                <a:tab algn="l" pos="4254480"/>
                <a:tab algn="l" pos="5318280"/>
                <a:tab algn="l" pos="6381720"/>
                <a:tab algn="l" pos="7445520"/>
                <a:tab algn="l" pos="8508960"/>
                <a:tab algn="l" pos="9572760"/>
                <a:tab algn="l" pos="106362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82760" y="9016560"/>
            <a:ext cx="8467200" cy="456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62"/>
              </a:spcBef>
              <a:buNone/>
              <a:tabLst>
                <a:tab algn="l" pos="1063800"/>
                <a:tab algn="l" pos="2127240"/>
                <a:tab algn="l" pos="3191040"/>
                <a:tab algn="l" pos="4254480"/>
                <a:tab algn="l" pos="5318280"/>
                <a:tab algn="l" pos="6381720"/>
                <a:tab algn="l" pos="7445520"/>
                <a:tab algn="l" pos="8508960"/>
                <a:tab algn="l" pos="9572760"/>
                <a:tab algn="l" pos="106362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0273680" y="9016560"/>
            <a:ext cx="8467200" cy="456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62"/>
              </a:spcBef>
              <a:buNone/>
              <a:tabLst>
                <a:tab algn="l" pos="1063800"/>
                <a:tab algn="l" pos="2127240"/>
                <a:tab algn="l" pos="3191040"/>
                <a:tab algn="l" pos="4254480"/>
                <a:tab algn="l" pos="5318280"/>
                <a:tab algn="l" pos="6381720"/>
                <a:tab algn="l" pos="7445520"/>
                <a:tab algn="l" pos="8508960"/>
                <a:tab algn="l" pos="9572760"/>
                <a:tab algn="l" pos="106362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4F0DF-5102-4346-8C9C-2EA4BBEA6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82760" y="802800"/>
            <a:ext cx="17351280" cy="29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3800"/>
                <a:tab algn="l" pos="2127240"/>
                <a:tab algn="l" pos="3191040"/>
                <a:tab algn="l" pos="4254480"/>
                <a:tab algn="l" pos="5318280"/>
                <a:tab algn="l" pos="6381720"/>
                <a:tab algn="l" pos="7445520"/>
                <a:tab algn="l" pos="8508960"/>
                <a:tab algn="l" pos="9572760"/>
                <a:tab algn="l" pos="1063620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82760" y="4016520"/>
            <a:ext cx="5586840" cy="456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62"/>
              </a:spcBef>
              <a:buNone/>
              <a:tabLst>
                <a:tab algn="l" pos="1063800"/>
                <a:tab algn="l" pos="2127240"/>
                <a:tab algn="l" pos="3191040"/>
                <a:tab algn="l" pos="4254480"/>
                <a:tab algn="l" pos="5318280"/>
                <a:tab algn="l" pos="6381720"/>
                <a:tab algn="l" pos="7445520"/>
                <a:tab algn="l" pos="8508960"/>
                <a:tab algn="l" pos="9572760"/>
                <a:tab algn="l" pos="106362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7249320" y="4016520"/>
            <a:ext cx="5586840" cy="456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62"/>
              </a:spcBef>
              <a:buNone/>
              <a:tabLst>
                <a:tab algn="l" pos="1063800"/>
                <a:tab algn="l" pos="2127240"/>
                <a:tab algn="l" pos="3191040"/>
                <a:tab algn="l" pos="4254480"/>
                <a:tab algn="l" pos="5318280"/>
                <a:tab algn="l" pos="6381720"/>
                <a:tab algn="l" pos="7445520"/>
                <a:tab algn="l" pos="8508960"/>
                <a:tab algn="l" pos="9572760"/>
                <a:tab algn="l" pos="106362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115880" y="4016520"/>
            <a:ext cx="5586840" cy="456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62"/>
              </a:spcBef>
              <a:buNone/>
              <a:tabLst>
                <a:tab algn="l" pos="1063800"/>
                <a:tab algn="l" pos="2127240"/>
                <a:tab algn="l" pos="3191040"/>
                <a:tab algn="l" pos="4254480"/>
                <a:tab algn="l" pos="5318280"/>
                <a:tab algn="l" pos="6381720"/>
                <a:tab algn="l" pos="7445520"/>
                <a:tab algn="l" pos="8508960"/>
                <a:tab algn="l" pos="9572760"/>
                <a:tab algn="l" pos="106362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82760" y="9016560"/>
            <a:ext cx="5586840" cy="456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62"/>
              </a:spcBef>
              <a:buNone/>
              <a:tabLst>
                <a:tab algn="l" pos="1063800"/>
                <a:tab algn="l" pos="2127240"/>
                <a:tab algn="l" pos="3191040"/>
                <a:tab algn="l" pos="4254480"/>
                <a:tab algn="l" pos="5318280"/>
                <a:tab algn="l" pos="6381720"/>
                <a:tab algn="l" pos="7445520"/>
                <a:tab algn="l" pos="8508960"/>
                <a:tab algn="l" pos="9572760"/>
                <a:tab algn="l" pos="106362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7249320" y="9016560"/>
            <a:ext cx="5586840" cy="456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62"/>
              </a:spcBef>
              <a:buNone/>
              <a:tabLst>
                <a:tab algn="l" pos="1063800"/>
                <a:tab algn="l" pos="2127240"/>
                <a:tab algn="l" pos="3191040"/>
                <a:tab algn="l" pos="4254480"/>
                <a:tab algn="l" pos="5318280"/>
                <a:tab algn="l" pos="6381720"/>
                <a:tab algn="l" pos="7445520"/>
                <a:tab algn="l" pos="8508960"/>
                <a:tab algn="l" pos="9572760"/>
                <a:tab algn="l" pos="106362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3115880" y="9016560"/>
            <a:ext cx="5586840" cy="456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62"/>
              </a:spcBef>
              <a:buNone/>
              <a:tabLst>
                <a:tab algn="l" pos="1063800"/>
                <a:tab algn="l" pos="2127240"/>
                <a:tab algn="l" pos="3191040"/>
                <a:tab algn="l" pos="4254480"/>
                <a:tab algn="l" pos="5318280"/>
                <a:tab algn="l" pos="6381720"/>
                <a:tab algn="l" pos="7445520"/>
                <a:tab algn="l" pos="8508960"/>
                <a:tab algn="l" pos="9572760"/>
                <a:tab algn="l" pos="106362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D3B1A-D055-40FA-B9D7-88F9E5CF0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82760" y="802800"/>
            <a:ext cx="17351280" cy="29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3800"/>
                <a:tab algn="l" pos="2127240"/>
                <a:tab algn="l" pos="3191040"/>
                <a:tab algn="l" pos="4254480"/>
                <a:tab algn="l" pos="5318280"/>
                <a:tab algn="l" pos="6381720"/>
                <a:tab algn="l" pos="7445520"/>
                <a:tab algn="l" pos="8508960"/>
                <a:tab algn="l" pos="9572760"/>
                <a:tab algn="l" pos="1063620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82760" y="4016520"/>
            <a:ext cx="17351280" cy="95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62"/>
              </a:spcBef>
              <a:buNone/>
              <a:tabLst>
                <a:tab algn="l" pos="0"/>
                <a:tab algn="l" pos="1063800"/>
                <a:tab algn="l" pos="2127240"/>
                <a:tab algn="l" pos="3191040"/>
                <a:tab algn="l" pos="4254480"/>
                <a:tab algn="l" pos="5318280"/>
                <a:tab algn="l" pos="6381720"/>
                <a:tab algn="l" pos="7445520"/>
                <a:tab algn="l" pos="8508960"/>
                <a:tab algn="l" pos="9572760"/>
                <a:tab algn="l" pos="106362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B0B94-6218-4587-A94F-9E931CDBD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82760" y="802800"/>
            <a:ext cx="17351280" cy="29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3800"/>
                <a:tab algn="l" pos="2127240"/>
                <a:tab algn="l" pos="3191040"/>
                <a:tab algn="l" pos="4254480"/>
                <a:tab algn="l" pos="5318280"/>
                <a:tab algn="l" pos="6381720"/>
                <a:tab algn="l" pos="7445520"/>
                <a:tab algn="l" pos="8508960"/>
                <a:tab algn="l" pos="9572760"/>
                <a:tab algn="l" pos="1063620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82760" y="4016520"/>
            <a:ext cx="17351280" cy="957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62"/>
              </a:spcBef>
              <a:buNone/>
              <a:tabLst>
                <a:tab algn="l" pos="1063800"/>
                <a:tab algn="l" pos="2127240"/>
                <a:tab algn="l" pos="3191040"/>
                <a:tab algn="l" pos="4254480"/>
                <a:tab algn="l" pos="5318280"/>
                <a:tab algn="l" pos="6381720"/>
                <a:tab algn="l" pos="7445520"/>
                <a:tab algn="l" pos="8508960"/>
                <a:tab algn="l" pos="9572760"/>
                <a:tab algn="l" pos="106362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3E3D8-68F8-498E-91ED-3B8455A74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82760" y="802800"/>
            <a:ext cx="17351280" cy="29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3800"/>
                <a:tab algn="l" pos="2127240"/>
                <a:tab algn="l" pos="3191040"/>
                <a:tab algn="l" pos="4254480"/>
                <a:tab algn="l" pos="5318280"/>
                <a:tab algn="l" pos="6381720"/>
                <a:tab algn="l" pos="7445520"/>
                <a:tab algn="l" pos="8508960"/>
                <a:tab algn="l" pos="9572760"/>
                <a:tab algn="l" pos="1063620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82760" y="4016520"/>
            <a:ext cx="8467200" cy="957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62"/>
              </a:spcBef>
              <a:buNone/>
              <a:tabLst>
                <a:tab algn="l" pos="1063800"/>
                <a:tab algn="l" pos="2127240"/>
                <a:tab algn="l" pos="3191040"/>
                <a:tab algn="l" pos="4254480"/>
                <a:tab algn="l" pos="5318280"/>
                <a:tab algn="l" pos="6381720"/>
                <a:tab algn="l" pos="7445520"/>
                <a:tab algn="l" pos="8508960"/>
                <a:tab algn="l" pos="9572760"/>
                <a:tab algn="l" pos="106362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0273680" y="4016520"/>
            <a:ext cx="8467200" cy="957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62"/>
              </a:spcBef>
              <a:buNone/>
              <a:tabLst>
                <a:tab algn="l" pos="1063800"/>
                <a:tab algn="l" pos="2127240"/>
                <a:tab algn="l" pos="3191040"/>
                <a:tab algn="l" pos="4254480"/>
                <a:tab algn="l" pos="5318280"/>
                <a:tab algn="l" pos="6381720"/>
                <a:tab algn="l" pos="7445520"/>
                <a:tab algn="l" pos="8508960"/>
                <a:tab algn="l" pos="9572760"/>
                <a:tab algn="l" pos="106362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12E22-5CF6-405C-BD51-28D0A9265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82760" y="802800"/>
            <a:ext cx="17351280" cy="29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3800"/>
                <a:tab algn="l" pos="2127240"/>
                <a:tab algn="l" pos="3191040"/>
                <a:tab algn="l" pos="4254480"/>
                <a:tab algn="l" pos="5318280"/>
                <a:tab algn="l" pos="6381720"/>
                <a:tab algn="l" pos="7445520"/>
                <a:tab algn="l" pos="8508960"/>
                <a:tab algn="l" pos="9572760"/>
                <a:tab algn="l" pos="1063620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56298-FBC1-4C6F-AB5A-FEB5F559E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82760" y="802800"/>
            <a:ext cx="17351280" cy="13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62"/>
              </a:spcBef>
              <a:tabLst>
                <a:tab algn="l" pos="0"/>
                <a:tab algn="l" pos="1063800"/>
                <a:tab algn="l" pos="2127240"/>
                <a:tab algn="l" pos="3191040"/>
                <a:tab algn="l" pos="4254480"/>
                <a:tab algn="l" pos="5318280"/>
                <a:tab algn="l" pos="6381720"/>
                <a:tab algn="l" pos="7445520"/>
                <a:tab algn="l" pos="8508960"/>
                <a:tab algn="l" pos="9572760"/>
                <a:tab algn="l" pos="106362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FDCD8-D6C5-4BD3-995E-D63B81F9C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82760" y="802800"/>
            <a:ext cx="17351280" cy="29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3800"/>
                <a:tab algn="l" pos="2127240"/>
                <a:tab algn="l" pos="3191040"/>
                <a:tab algn="l" pos="4254480"/>
                <a:tab algn="l" pos="5318280"/>
                <a:tab algn="l" pos="6381720"/>
                <a:tab algn="l" pos="7445520"/>
                <a:tab algn="l" pos="8508960"/>
                <a:tab algn="l" pos="9572760"/>
                <a:tab algn="l" pos="1063620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82760" y="4016520"/>
            <a:ext cx="8467200" cy="456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62"/>
              </a:spcBef>
              <a:buNone/>
              <a:tabLst>
                <a:tab algn="l" pos="1063800"/>
                <a:tab algn="l" pos="2127240"/>
                <a:tab algn="l" pos="3191040"/>
                <a:tab algn="l" pos="4254480"/>
                <a:tab algn="l" pos="5318280"/>
                <a:tab algn="l" pos="6381720"/>
                <a:tab algn="l" pos="7445520"/>
                <a:tab algn="l" pos="8508960"/>
                <a:tab algn="l" pos="9572760"/>
                <a:tab algn="l" pos="106362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0273680" y="4016520"/>
            <a:ext cx="8467200" cy="957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62"/>
              </a:spcBef>
              <a:buNone/>
              <a:tabLst>
                <a:tab algn="l" pos="1063800"/>
                <a:tab algn="l" pos="2127240"/>
                <a:tab algn="l" pos="3191040"/>
                <a:tab algn="l" pos="4254480"/>
                <a:tab algn="l" pos="5318280"/>
                <a:tab algn="l" pos="6381720"/>
                <a:tab algn="l" pos="7445520"/>
                <a:tab algn="l" pos="8508960"/>
                <a:tab algn="l" pos="9572760"/>
                <a:tab algn="l" pos="106362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82760" y="9016560"/>
            <a:ext cx="8467200" cy="456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62"/>
              </a:spcBef>
              <a:buNone/>
              <a:tabLst>
                <a:tab algn="l" pos="1063800"/>
                <a:tab algn="l" pos="2127240"/>
                <a:tab algn="l" pos="3191040"/>
                <a:tab algn="l" pos="4254480"/>
                <a:tab algn="l" pos="5318280"/>
                <a:tab algn="l" pos="6381720"/>
                <a:tab algn="l" pos="7445520"/>
                <a:tab algn="l" pos="8508960"/>
                <a:tab algn="l" pos="9572760"/>
                <a:tab algn="l" pos="106362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066D9-435D-48C4-9CCA-A0FA6A4C7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82760" y="802800"/>
            <a:ext cx="17351280" cy="29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3800"/>
                <a:tab algn="l" pos="2127240"/>
                <a:tab algn="l" pos="3191040"/>
                <a:tab algn="l" pos="4254480"/>
                <a:tab algn="l" pos="5318280"/>
                <a:tab algn="l" pos="6381720"/>
                <a:tab algn="l" pos="7445520"/>
                <a:tab algn="l" pos="8508960"/>
                <a:tab algn="l" pos="9572760"/>
                <a:tab algn="l" pos="1063620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82760" y="4016520"/>
            <a:ext cx="8467200" cy="957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62"/>
              </a:spcBef>
              <a:buNone/>
              <a:tabLst>
                <a:tab algn="l" pos="1063800"/>
                <a:tab algn="l" pos="2127240"/>
                <a:tab algn="l" pos="3191040"/>
                <a:tab algn="l" pos="4254480"/>
                <a:tab algn="l" pos="5318280"/>
                <a:tab algn="l" pos="6381720"/>
                <a:tab algn="l" pos="7445520"/>
                <a:tab algn="l" pos="8508960"/>
                <a:tab algn="l" pos="9572760"/>
                <a:tab algn="l" pos="106362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0273680" y="4016520"/>
            <a:ext cx="8467200" cy="456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62"/>
              </a:spcBef>
              <a:buNone/>
              <a:tabLst>
                <a:tab algn="l" pos="1063800"/>
                <a:tab algn="l" pos="2127240"/>
                <a:tab algn="l" pos="3191040"/>
                <a:tab algn="l" pos="4254480"/>
                <a:tab algn="l" pos="5318280"/>
                <a:tab algn="l" pos="6381720"/>
                <a:tab algn="l" pos="7445520"/>
                <a:tab algn="l" pos="8508960"/>
                <a:tab algn="l" pos="9572760"/>
                <a:tab algn="l" pos="106362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273680" y="9016560"/>
            <a:ext cx="8467200" cy="456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62"/>
              </a:spcBef>
              <a:buNone/>
              <a:tabLst>
                <a:tab algn="l" pos="1063800"/>
                <a:tab algn="l" pos="2127240"/>
                <a:tab algn="l" pos="3191040"/>
                <a:tab algn="l" pos="4254480"/>
                <a:tab algn="l" pos="5318280"/>
                <a:tab algn="l" pos="6381720"/>
                <a:tab algn="l" pos="7445520"/>
                <a:tab algn="l" pos="8508960"/>
                <a:tab algn="l" pos="9572760"/>
                <a:tab algn="l" pos="106362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06D42-44CF-4372-82ED-D0B5B8765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82760" y="802800"/>
            <a:ext cx="17351280" cy="29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3800"/>
                <a:tab algn="l" pos="2127240"/>
                <a:tab algn="l" pos="3191040"/>
                <a:tab algn="l" pos="4254480"/>
                <a:tab algn="l" pos="5318280"/>
                <a:tab algn="l" pos="6381720"/>
                <a:tab algn="l" pos="7445520"/>
                <a:tab algn="l" pos="8508960"/>
                <a:tab algn="l" pos="9572760"/>
                <a:tab algn="l" pos="10636200"/>
              </a:tabLst>
            </a:pP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82760" y="4016520"/>
            <a:ext cx="8467200" cy="456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62"/>
              </a:spcBef>
              <a:buNone/>
              <a:tabLst>
                <a:tab algn="l" pos="1063800"/>
                <a:tab algn="l" pos="2127240"/>
                <a:tab algn="l" pos="3191040"/>
                <a:tab algn="l" pos="4254480"/>
                <a:tab algn="l" pos="5318280"/>
                <a:tab algn="l" pos="6381720"/>
                <a:tab algn="l" pos="7445520"/>
                <a:tab algn="l" pos="8508960"/>
                <a:tab algn="l" pos="9572760"/>
                <a:tab algn="l" pos="106362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0273680" y="4016520"/>
            <a:ext cx="8467200" cy="456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62"/>
              </a:spcBef>
              <a:buNone/>
              <a:tabLst>
                <a:tab algn="l" pos="1063800"/>
                <a:tab algn="l" pos="2127240"/>
                <a:tab algn="l" pos="3191040"/>
                <a:tab algn="l" pos="4254480"/>
                <a:tab algn="l" pos="5318280"/>
                <a:tab algn="l" pos="6381720"/>
                <a:tab algn="l" pos="7445520"/>
                <a:tab algn="l" pos="8508960"/>
                <a:tab algn="l" pos="9572760"/>
                <a:tab algn="l" pos="106362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82760" y="9016560"/>
            <a:ext cx="17351280" cy="456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62"/>
              </a:spcBef>
              <a:buNone/>
              <a:tabLst>
                <a:tab algn="l" pos="1063800"/>
                <a:tab algn="l" pos="2127240"/>
                <a:tab algn="l" pos="3191040"/>
                <a:tab algn="l" pos="4254480"/>
                <a:tab algn="l" pos="5318280"/>
                <a:tab algn="l" pos="6381720"/>
                <a:tab algn="l" pos="7445520"/>
                <a:tab algn="l" pos="8508960"/>
                <a:tab algn="l" pos="9572760"/>
                <a:tab algn="l" pos="106362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F3CFA-AC57-4784-8726-92C8380CB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82760" y="802800"/>
            <a:ext cx="17351280" cy="29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63800"/>
                <a:tab algn="l" pos="2127240"/>
                <a:tab algn="l" pos="3191040"/>
                <a:tab algn="l" pos="4254480"/>
                <a:tab algn="l" pos="5318280"/>
                <a:tab algn="l" pos="6381720"/>
                <a:tab algn="l" pos="7445520"/>
                <a:tab algn="l" pos="8508960"/>
                <a:tab algn="l" pos="9572760"/>
                <a:tab algn="l" pos="10636200"/>
              </a:tabLst>
            </a:pPr>
            <a:r>
              <a:rPr b="0" lang="en-US" sz="51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51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82760" y="4016520"/>
            <a:ext cx="17351280" cy="957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lnSpc>
                <a:spcPct val="90000"/>
              </a:lnSpc>
              <a:spcBef>
                <a:spcPts val="1162"/>
              </a:spcBef>
              <a:buClr>
                <a:srgbClr val="000000"/>
              </a:buClr>
              <a:buFont typeface="Arial"/>
              <a:buChar char="•"/>
              <a:tabLst>
                <a:tab algn="l" pos="1063800"/>
                <a:tab algn="l" pos="2127240"/>
                <a:tab algn="l" pos="3191040"/>
                <a:tab algn="l" pos="4254480"/>
                <a:tab algn="l" pos="5318280"/>
                <a:tab algn="l" pos="6381720"/>
                <a:tab algn="l" pos="7445520"/>
                <a:tab algn="l" pos="8508960"/>
                <a:tab algn="l" pos="9572760"/>
                <a:tab algn="l" pos="10636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97040" indent="-265320">
              <a:lnSpc>
                <a:spcPct val="90000"/>
              </a:lnSpc>
              <a:spcBef>
                <a:spcPts val="1162"/>
              </a:spcBef>
              <a:buClr>
                <a:srgbClr val="000000"/>
              </a:buClr>
              <a:buFont typeface="Arial"/>
              <a:buChar char="•"/>
              <a:tabLst>
                <a:tab algn="l" pos="1063800"/>
                <a:tab algn="l" pos="2127240"/>
                <a:tab algn="l" pos="3191040"/>
                <a:tab algn="l" pos="4254480"/>
                <a:tab algn="l" pos="5318280"/>
                <a:tab algn="l" pos="6381720"/>
                <a:tab algn="l" pos="7445520"/>
                <a:tab algn="l" pos="8508960"/>
                <a:tab algn="l" pos="9572760"/>
                <a:tab algn="l" pos="10636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328760" indent="-264960">
              <a:lnSpc>
                <a:spcPct val="90000"/>
              </a:lnSpc>
              <a:spcBef>
                <a:spcPts val="1162"/>
              </a:spcBef>
              <a:buClr>
                <a:srgbClr val="000000"/>
              </a:buClr>
              <a:buFont typeface="Arial"/>
              <a:buChar char="•"/>
              <a:tabLst>
                <a:tab algn="l" pos="1063800"/>
                <a:tab algn="l" pos="2127240"/>
                <a:tab algn="l" pos="3191040"/>
                <a:tab algn="l" pos="4254480"/>
                <a:tab algn="l" pos="5318280"/>
                <a:tab algn="l" pos="6381720"/>
                <a:tab algn="l" pos="7445520"/>
                <a:tab algn="l" pos="8508960"/>
                <a:tab algn="l" pos="9572760"/>
                <a:tab algn="l" pos="10636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860480" indent="-264960">
              <a:lnSpc>
                <a:spcPct val="90000"/>
              </a:lnSpc>
              <a:spcBef>
                <a:spcPts val="1162"/>
              </a:spcBef>
              <a:buClr>
                <a:srgbClr val="000000"/>
              </a:buClr>
              <a:buFont typeface="Arial"/>
              <a:buChar char="•"/>
              <a:tabLst>
                <a:tab algn="l" pos="1063800"/>
                <a:tab algn="l" pos="2127240"/>
                <a:tab algn="l" pos="3191040"/>
                <a:tab algn="l" pos="4254480"/>
                <a:tab algn="l" pos="5318280"/>
                <a:tab algn="l" pos="6381720"/>
                <a:tab algn="l" pos="7445520"/>
                <a:tab algn="l" pos="8508960"/>
                <a:tab algn="l" pos="9572760"/>
                <a:tab algn="l" pos="10636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392200" indent="-264960">
              <a:lnSpc>
                <a:spcPct val="90000"/>
              </a:lnSpc>
              <a:spcBef>
                <a:spcPts val="1162"/>
              </a:spcBef>
              <a:buClr>
                <a:srgbClr val="000000"/>
              </a:buClr>
              <a:buFont typeface="Arial"/>
              <a:buChar char="•"/>
              <a:tabLst>
                <a:tab algn="l" pos="1063800"/>
                <a:tab algn="l" pos="2127240"/>
                <a:tab algn="l" pos="3191040"/>
                <a:tab algn="l" pos="4254480"/>
                <a:tab algn="l" pos="5318280"/>
                <a:tab algn="l" pos="6381720"/>
                <a:tab algn="l" pos="7445520"/>
                <a:tab algn="l" pos="8508960"/>
                <a:tab algn="l" pos="9572760"/>
                <a:tab algn="l" pos="10636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392200" indent="-264960">
              <a:lnSpc>
                <a:spcPct val="90000"/>
              </a:lnSpc>
              <a:spcBef>
                <a:spcPts val="1162"/>
              </a:spcBef>
              <a:buClr>
                <a:srgbClr val="000000"/>
              </a:buClr>
              <a:buFont typeface="Arial"/>
              <a:buChar char="•"/>
              <a:tabLst>
                <a:tab algn="l" pos="1063800"/>
                <a:tab algn="l" pos="2127240"/>
                <a:tab algn="l" pos="3191040"/>
                <a:tab algn="l" pos="4254480"/>
                <a:tab algn="l" pos="5318280"/>
                <a:tab algn="l" pos="6381720"/>
                <a:tab algn="l" pos="7445520"/>
                <a:tab algn="l" pos="8508960"/>
                <a:tab algn="l" pos="9572760"/>
                <a:tab algn="l" pos="10636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392200" indent="-264960">
              <a:lnSpc>
                <a:spcPct val="90000"/>
              </a:lnSpc>
              <a:spcBef>
                <a:spcPts val="1162"/>
              </a:spcBef>
              <a:buClr>
                <a:srgbClr val="000000"/>
              </a:buClr>
              <a:buFont typeface="Arial"/>
              <a:buChar char="•"/>
              <a:tabLst>
                <a:tab algn="l" pos="1063800"/>
                <a:tab algn="l" pos="2127240"/>
                <a:tab algn="l" pos="3191040"/>
                <a:tab algn="l" pos="4254480"/>
                <a:tab algn="l" pos="5318280"/>
                <a:tab algn="l" pos="6381720"/>
                <a:tab algn="l" pos="7445520"/>
                <a:tab algn="l" pos="8508960"/>
                <a:tab algn="l" pos="9572760"/>
                <a:tab algn="l" pos="10636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382760" y="13984200"/>
            <a:ext cx="4525920" cy="8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2084400"/>
                <a:tab algn="l" pos="4168800"/>
                <a:tab algn="l" pos="6253200"/>
                <a:tab algn="l" pos="8337600"/>
                <a:tab algn="l" pos="10422000"/>
              </a:tabLst>
              <a:defRPr b="0" lang="bg-BG" sz="13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2084400"/>
                <a:tab algn="l" pos="4168800"/>
                <a:tab algn="l" pos="6253200"/>
                <a:tab algn="l" pos="8337600"/>
                <a:tab algn="l" pos="10422000"/>
              </a:tabLst>
            </a:pPr>
            <a:r>
              <a:rPr b="0" lang="bg-BG" sz="13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664320" y="13984200"/>
            <a:ext cx="6788160" cy="8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2084400"/>
                <a:tab algn="l" pos="4168800"/>
                <a:tab algn="l" pos="6253200"/>
                <a:tab algn="l" pos="8337600"/>
                <a:tab algn="l" pos="104220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4208120" y="13984200"/>
            <a:ext cx="4525920" cy="8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2084400"/>
                <a:tab algn="l" pos="4168800"/>
                <a:tab algn="l" pos="6253200"/>
                <a:tab algn="l" pos="8337600"/>
                <a:tab algn="l" pos="10422000"/>
              </a:tabLst>
              <a:defRPr b="0" lang="bg-BG" sz="13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2084400"/>
                <a:tab algn="l" pos="4168800"/>
                <a:tab algn="l" pos="6253200"/>
                <a:tab algn="l" pos="8337600"/>
                <a:tab algn="l" pos="10422000"/>
              </a:tabLst>
            </a:pPr>
            <a:fld id="{F14F8719-11B1-4B67-BA39-9E6FB337F60D}" type="slidenum">
              <a:rPr b="0" lang="bg-BG" sz="13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13.wmf"/><Relationship Id="rId14" Type="http://schemas.openxmlformats.org/officeDocument/2006/relationships/image" Target="../media/image14.wmf"/><Relationship Id="rId15" Type="http://schemas.openxmlformats.org/officeDocument/2006/relationships/image" Target="../media/image15.wmf"/><Relationship Id="rId16" Type="http://schemas.openxmlformats.org/officeDocument/2006/relationships/image" Target="../media/image16.wmf"/><Relationship Id="rId17" Type="http://schemas.openxmlformats.org/officeDocument/2006/relationships/image" Target="../media/image17.wmf"/><Relationship Id="rId18" Type="http://schemas.openxmlformats.org/officeDocument/2006/relationships/image" Target="../media/image18.wmf"/><Relationship Id="rId19" Type="http://schemas.openxmlformats.org/officeDocument/2006/relationships/image" Target="../media/image19.wmf"/><Relationship Id="rId20" Type="http://schemas.openxmlformats.org/officeDocument/2006/relationships/image" Target="../media/image20.wmf"/><Relationship Id="rId21" Type="http://schemas.openxmlformats.org/officeDocument/2006/relationships/image" Target="../media/image21.wmf"/><Relationship Id="rId22" Type="http://schemas.openxmlformats.org/officeDocument/2006/relationships/image" Target="../media/image22.wmf"/><Relationship Id="rId23" Type="http://schemas.openxmlformats.org/officeDocument/2006/relationships/image" Target="../media/image23.wmf"/><Relationship Id="rId24" Type="http://schemas.openxmlformats.org/officeDocument/2006/relationships/image" Target="../media/image24.wmf"/><Relationship Id="rId25" Type="http://schemas.openxmlformats.org/officeDocument/2006/relationships/image" Target="../media/image25.wmf"/><Relationship Id="rId26" Type="http://schemas.openxmlformats.org/officeDocument/2006/relationships/image" Target="../media/image26.wmf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wmf"/><Relationship Id="rId30" Type="http://schemas.openxmlformats.org/officeDocument/2006/relationships/image" Target="../media/image30.wmf"/><Relationship Id="rId31" Type="http://schemas.openxmlformats.org/officeDocument/2006/relationships/image" Target="../media/image31.wmf"/><Relationship Id="rId32" Type="http://schemas.openxmlformats.org/officeDocument/2006/relationships/slideLayout" Target="../slideLayouts/slideLayout1.xml"/><Relationship Id="rId3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itle 1"/>
          <p:cNvSpPr/>
          <p:nvPr/>
        </p:nvSpPr>
        <p:spPr>
          <a:xfrm>
            <a:off x="0" y="7920"/>
            <a:ext cx="20116800" cy="6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ru-RU" sz="3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лементарните частици</a:t>
            </a:r>
            <a:r>
              <a:rPr b="1" lang="en-US" sz="3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субатомната структура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9" name="Group 92"/>
          <p:cNvGrpSpPr/>
          <p:nvPr/>
        </p:nvGrpSpPr>
        <p:grpSpPr>
          <a:xfrm>
            <a:off x="92160" y="692280"/>
            <a:ext cx="19854720" cy="5076720"/>
            <a:chOff x="92160" y="692280"/>
            <a:chExt cx="19854720" cy="5076720"/>
          </a:xfrm>
        </p:grpSpPr>
        <p:sp>
          <p:nvSpPr>
            <p:cNvPr id="50" name="TextBox 4"/>
            <p:cNvSpPr/>
            <p:nvPr/>
          </p:nvSpPr>
          <p:spPr>
            <a:xfrm>
              <a:off x="1441440" y="692280"/>
              <a:ext cx="1361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084400"/>
                  <a:tab algn="l" pos="4168800"/>
                  <a:tab algn="l" pos="6253200"/>
                  <a:tab algn="l" pos="8337600"/>
                  <a:tab algn="l" pos="104220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кварки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" name="TextBox 5"/>
            <p:cNvSpPr/>
            <p:nvPr/>
          </p:nvSpPr>
          <p:spPr>
            <a:xfrm>
              <a:off x="8228880" y="692280"/>
              <a:ext cx="126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084400"/>
                  <a:tab algn="l" pos="4168800"/>
                  <a:tab algn="l" pos="6253200"/>
                  <a:tab algn="l" pos="8337600"/>
                  <a:tab algn="l" pos="104220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бозони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TextBox 6"/>
            <p:cNvSpPr/>
            <p:nvPr/>
          </p:nvSpPr>
          <p:spPr>
            <a:xfrm>
              <a:off x="14782320" y="694800"/>
              <a:ext cx="1501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084400"/>
                  <a:tab algn="l" pos="4168800"/>
                  <a:tab algn="l" pos="6253200"/>
                  <a:tab algn="l" pos="8337600"/>
                  <a:tab algn="l" pos="104220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лептони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3" name="Group 34"/>
            <p:cNvGrpSpPr/>
            <p:nvPr/>
          </p:nvGrpSpPr>
          <p:grpSpPr>
            <a:xfrm>
              <a:off x="92160" y="1311120"/>
              <a:ext cx="6520320" cy="4457880"/>
              <a:chOff x="92160" y="1311120"/>
              <a:chExt cx="6520320" cy="4457880"/>
            </a:xfrm>
          </p:grpSpPr>
          <p:pic>
            <p:nvPicPr>
              <p:cNvPr id="54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3915360" y="1335600"/>
                <a:ext cx="2697120" cy="44334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55" name="Group 16"/>
              <p:cNvGrpSpPr/>
              <p:nvPr/>
            </p:nvGrpSpPr>
            <p:grpSpPr>
              <a:xfrm>
                <a:off x="92160" y="1311120"/>
                <a:ext cx="3743280" cy="4426920"/>
                <a:chOff x="92160" y="1311120"/>
                <a:chExt cx="3743280" cy="4426920"/>
              </a:xfrm>
            </p:grpSpPr>
            <p:pic>
              <p:nvPicPr>
                <p:cNvPr id="56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2160" y="1311120"/>
                  <a:ext cx="1830240" cy="136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7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982880" y="1335600"/>
                  <a:ext cx="1828800" cy="136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8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92160" y="2839680"/>
                  <a:ext cx="1806480" cy="136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9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92160" y="4368240"/>
                  <a:ext cx="1806480" cy="136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0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2006640" y="2839680"/>
                  <a:ext cx="1828800" cy="136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1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2006640" y="4368240"/>
                  <a:ext cx="1805040" cy="13698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62" name="Group 33"/>
            <p:cNvGrpSpPr/>
            <p:nvPr/>
          </p:nvGrpSpPr>
          <p:grpSpPr>
            <a:xfrm>
              <a:off x="6827040" y="1335960"/>
              <a:ext cx="6242760" cy="4402080"/>
              <a:chOff x="6827040" y="1335960"/>
              <a:chExt cx="6242760" cy="4402080"/>
            </a:xfrm>
          </p:grpSpPr>
          <p:grpSp>
            <p:nvGrpSpPr>
              <p:cNvPr id="63" name="Group 27"/>
              <p:cNvGrpSpPr/>
              <p:nvPr/>
            </p:nvGrpSpPr>
            <p:grpSpPr>
              <a:xfrm>
                <a:off x="6827040" y="1335960"/>
                <a:ext cx="3726000" cy="4402080"/>
                <a:chOff x="6827040" y="1335960"/>
                <a:chExt cx="3726000" cy="4402080"/>
              </a:xfrm>
            </p:grpSpPr>
            <p:pic>
              <p:nvPicPr>
                <p:cNvPr id="64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6827040" y="1335960"/>
                  <a:ext cx="1852560" cy="13712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6827040" y="2837880"/>
                  <a:ext cx="1830240" cy="13712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6838920" y="4366800"/>
                  <a:ext cx="1806480" cy="13712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726040" y="2865960"/>
                  <a:ext cx="1827000" cy="13269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726040" y="1378800"/>
                  <a:ext cx="1827000" cy="13269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726040" y="4388760"/>
                  <a:ext cx="1827000" cy="13269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70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10625040" y="1379880"/>
                <a:ext cx="2444760" cy="43207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71" name="Group 32"/>
            <p:cNvGrpSpPr/>
            <p:nvPr/>
          </p:nvGrpSpPr>
          <p:grpSpPr>
            <a:xfrm>
              <a:off x="13267440" y="1378800"/>
              <a:ext cx="6679440" cy="4333680"/>
              <a:chOff x="13267440" y="1378800"/>
              <a:chExt cx="6679440" cy="4333680"/>
            </a:xfrm>
          </p:grpSpPr>
          <p:pic>
            <p:nvPicPr>
              <p:cNvPr id="72" name="" descr=""/>
              <p:cNvPicPr/>
              <p:nvPr/>
            </p:nvPicPr>
            <p:blipFill>
              <a:blip r:embed="rId16"/>
              <a:stretch/>
            </p:blipFill>
            <p:spPr>
              <a:xfrm>
                <a:off x="17111520" y="1405080"/>
                <a:ext cx="2835360" cy="42951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73" name="Group 31"/>
              <p:cNvGrpSpPr/>
              <p:nvPr/>
            </p:nvGrpSpPr>
            <p:grpSpPr>
              <a:xfrm>
                <a:off x="13267440" y="1378800"/>
                <a:ext cx="3776040" cy="4333680"/>
                <a:chOff x="13267440" y="1378800"/>
                <a:chExt cx="3776040" cy="4333680"/>
              </a:xfrm>
            </p:grpSpPr>
            <p:pic>
              <p:nvPicPr>
                <p:cNvPr id="74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13299120" y="1381680"/>
                  <a:ext cx="1805040" cy="13237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5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13288680" y="2874600"/>
                  <a:ext cx="1825560" cy="13237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6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13267440" y="4388760"/>
                  <a:ext cx="1849680" cy="13237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7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15168600" y="1378800"/>
                  <a:ext cx="1852560" cy="1325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8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15170040" y="2872800"/>
                  <a:ext cx="1851120" cy="13269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9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15190920" y="4375080"/>
                  <a:ext cx="1852560" cy="13251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sp>
        <p:nvSpPr>
          <p:cNvPr id="80" name="TextBox 94"/>
          <p:cNvSpPr/>
          <p:nvPr/>
        </p:nvSpPr>
        <p:spPr>
          <a:xfrm>
            <a:off x="16887960" y="14690880"/>
            <a:ext cx="28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084400"/>
                <a:tab algn="l" pos="4168800"/>
                <a:tab algn="l" pos="6253200"/>
                <a:tab algn="l" pos="8337600"/>
                <a:tab algn="l" pos="10422000"/>
              </a:tabLst>
            </a:pPr>
            <a:r>
              <a:rPr b="1" lang="bg-BG" sz="1800" spc="-1" strike="noStrike">
                <a:solidFill>
                  <a:srgbClr val="7f7f7f"/>
                </a:solidFill>
                <a:latin typeface="Times New Roman"/>
                <a:ea typeface="Times New Roman"/>
              </a:rPr>
              <a:t>©</a:t>
            </a:r>
            <a:r>
              <a:rPr b="1" lang="bg-BG" sz="1600" spc="-1" strike="noStrike">
                <a:solidFill>
                  <a:srgbClr val="7f7f7f"/>
                </a:solidFill>
                <a:latin typeface="Times New Roman"/>
                <a:ea typeface="Times New Roman"/>
              </a:rPr>
              <a:t> д.ф.-м.н. М. В. Чижов, 2015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1" name="Group 83"/>
          <p:cNvGrpSpPr/>
          <p:nvPr/>
        </p:nvGrpSpPr>
        <p:grpSpPr>
          <a:xfrm>
            <a:off x="25920" y="5972040"/>
            <a:ext cx="3904560" cy="1244880"/>
            <a:chOff x="25920" y="5972040"/>
            <a:chExt cx="3904560" cy="1244880"/>
          </a:xfrm>
        </p:grpSpPr>
        <p:sp>
          <p:nvSpPr>
            <p:cNvPr id="82" name="TextBox 35"/>
            <p:cNvSpPr/>
            <p:nvPr/>
          </p:nvSpPr>
          <p:spPr>
            <a:xfrm>
              <a:off x="25920" y="6726960"/>
              <a:ext cx="211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084400"/>
                  <a:tab algn="l" pos="4168800"/>
                  <a:tab algn="l" pos="6253200"/>
                  <a:tab algn="l" pos="8337600"/>
                  <a:tab algn="l" pos="104220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Обозначения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83" name="" descr=""/>
            <p:cNvPicPr/>
            <p:nvPr/>
          </p:nvPicPr>
          <p:blipFill>
            <a:blip r:embed="rId23"/>
            <a:stretch/>
          </p:blipFill>
          <p:spPr>
            <a:xfrm>
              <a:off x="2457360" y="5972040"/>
              <a:ext cx="1473120" cy="1244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4" name="Group 86"/>
          <p:cNvGrpSpPr/>
          <p:nvPr/>
        </p:nvGrpSpPr>
        <p:grpSpPr>
          <a:xfrm>
            <a:off x="7169760" y="10032840"/>
            <a:ext cx="3186000" cy="368280"/>
            <a:chOff x="7169760" y="10032840"/>
            <a:chExt cx="3186000" cy="368280"/>
          </a:xfrm>
        </p:grpSpPr>
        <p:sp>
          <p:nvSpPr>
            <p:cNvPr id="85" name="TextBox 84"/>
            <p:cNvSpPr/>
            <p:nvPr/>
          </p:nvSpPr>
          <p:spPr>
            <a:xfrm>
              <a:off x="7169760" y="10032840"/>
              <a:ext cx="867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084400"/>
                  <a:tab algn="l" pos="4168800"/>
                  <a:tab algn="l" pos="6253200"/>
                  <a:tab algn="l" pos="8337600"/>
                  <a:tab algn="l" pos="104220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ротон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TextBox 85"/>
            <p:cNvSpPr/>
            <p:nvPr/>
          </p:nvSpPr>
          <p:spPr>
            <a:xfrm>
              <a:off x="9385560" y="10032840"/>
              <a:ext cx="97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084400"/>
                  <a:tab algn="l" pos="4168800"/>
                  <a:tab algn="l" pos="6253200"/>
                  <a:tab algn="l" pos="8337600"/>
                  <a:tab algn="l" pos="10422000"/>
                </a:tabLst>
              </a:pPr>
              <a:r>
                <a:rPr b="0" lang="bg-BG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неутрон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87" name="" descr=""/>
          <p:cNvPicPr/>
          <p:nvPr/>
        </p:nvPicPr>
        <p:blipFill>
          <a:blip r:embed="rId24"/>
          <a:stretch/>
        </p:blipFill>
        <p:spPr>
          <a:xfrm>
            <a:off x="146160" y="7259760"/>
            <a:ext cx="5718240" cy="4125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5"/>
          <a:stretch/>
        </p:blipFill>
        <p:spPr>
          <a:xfrm>
            <a:off x="149400" y="11404440"/>
            <a:ext cx="5717880" cy="7066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6"/>
          <a:stretch/>
        </p:blipFill>
        <p:spPr>
          <a:xfrm>
            <a:off x="154080" y="12136320"/>
            <a:ext cx="5718240" cy="25527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4" descr=""/>
          <p:cNvPicPr/>
          <p:nvPr/>
        </p:nvPicPr>
        <p:blipFill>
          <a:blip r:embed="rId27"/>
          <a:stretch/>
        </p:blipFill>
        <p:spPr>
          <a:xfrm>
            <a:off x="6804000" y="10399680"/>
            <a:ext cx="1536840" cy="15256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37" descr=""/>
          <p:cNvPicPr/>
          <p:nvPr/>
        </p:nvPicPr>
        <p:blipFill>
          <a:blip r:embed="rId28"/>
          <a:stretch/>
        </p:blipFill>
        <p:spPr>
          <a:xfrm>
            <a:off x="9069480" y="10395000"/>
            <a:ext cx="1549440" cy="15364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9"/>
          <a:stretch/>
        </p:blipFill>
        <p:spPr>
          <a:xfrm>
            <a:off x="11734920" y="6154560"/>
            <a:ext cx="8234280" cy="854424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0"/>
          <a:stretch/>
        </p:blipFill>
        <p:spPr>
          <a:xfrm>
            <a:off x="5950080" y="6153120"/>
            <a:ext cx="5717880" cy="38973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1"/>
          <a:stretch/>
        </p:blipFill>
        <p:spPr>
          <a:xfrm>
            <a:off x="5950080" y="12036600"/>
            <a:ext cx="57178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30T15:41:42Z</dcterms:created>
  <dc:creator>Mihail Chizhov</dc:creator>
  <dc:description/>
  <dc:language>en-US</dc:language>
  <cp:lastModifiedBy>Maya Gaydarova</cp:lastModifiedBy>
  <dcterms:modified xsi:type="dcterms:W3CDTF">2015-04-03T14:09:09Z</dcterms:modified>
  <cp:revision>55</cp:revision>
  <dc:subject/>
  <dc:title>PowerPoint Presentation</dc:title>
</cp:coreProperties>
</file>